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6B7E7-459A-4BE2-BE44-B369EB185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29B5B-088D-4BC5-BAAB-1BA6230E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440C7-DA86-4184-A305-BA738D939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798D5-48AE-4186-8F16-E6470394E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9CD3-4F32-4895-9F6B-077CBDF38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C144-439A-4A15-BB31-0E4F9ECA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C812-39C8-45D1-BE6C-50FFBD40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580F-A3D2-4761-8FC5-9A773D65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7FC2-936E-49D8-9967-E241C166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ED70-4D71-472E-9679-D1B417D9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2509-0CA1-4A84-9089-93BF774A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5ADDC-41D9-4C14-9720-07122A8B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1AFC-3E2A-459E-B5FF-B57DDBC8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9FB5-DA03-48DC-AAC0-53B05A9E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3AD8-D6A6-4A86-823F-B031310E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7BC1-8342-4413-B93D-8D3C9B448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71AF-7DC5-4DA4-89F2-54DA0DCB9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A5B85-B2DC-4A89-B178-AD64CF6C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BFE26-CF05-4A5C-9A69-ABFEED9F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86F38-4846-4251-AEC8-900A034E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413D4-46D2-4030-B8E3-C90BCF9D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0DD76-87AF-4350-A746-8A69D05F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098FA-948A-401C-88E8-77DDE52C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5C529-99FC-417E-90C2-9A50074A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7482-59BD-4E4C-86EE-B3EE6501316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F874-1A9B-4A38-A928-CFE2F63EA96A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81080" y="171540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09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822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Сега желая, Боже мой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мирено, кротко, с простот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вета да изпълня Твой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мъртта Ти тук да помена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108000" y="2402640"/>
            <a:ext cx="925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Съзирам в Гетсимани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ълбоката Твоя тъг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кървав пот, страдания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как да не възпомена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24026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Голгота виждам Те разпет, презрян, отхвърлен от света, похулен и за мен проклет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 ще ли туй възпомена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24026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Кога се свърши този труд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дойде край на тежки дн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га явиш се в слава тук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, Боже, мене помени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1-30T08:49:35Z</dcterms:modified>
  <cp:revision>68</cp:revision>
  <dc:subject/>
  <dc:title>Slide 1</dc:title>
</cp:coreProperties>
</file>